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6CD-5898-4A06-80B2-CE091B4B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118-71EE-4591-8C7E-F465D432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44C-94AF-4CDA-B36B-DBFE7367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F51-4D5F-4374-BFDC-0A7DA18E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D2DD-28F6-48F2-93DD-5B377FA8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92D4-5F4D-4BB6-9143-8A067CF2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A9D1-827E-4865-9AEC-EB1DBBE7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8FC8-3AD7-4E0B-9686-60C68FA2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17C3-351C-44DD-887C-BCB8DA41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4EAF-F3E9-4136-AE38-A9083B21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8647-BE02-463C-BEB3-74970B63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F44-C9D1-40B6-9487-A824C001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63C2-C894-45E6-96D8-5AA4BC71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733E-BA37-41D7-80E0-A189877B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2F15-9F9E-45AF-9945-9DB55B27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958A-3A9A-4FFE-8A56-15051114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B89B-8912-4D5D-9CC3-69B03E8C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1E3-6FA6-46E2-B5BE-16DBEB0F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A9F-2003-4826-93FF-1287D22F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05E-F5AD-4ED7-82B8-21623441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9BD-D9FB-4DE1-BD32-57C7172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2B7-12BF-4DA5-B3D8-8E471D3D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9B7-8408-4CE8-9201-649690A4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1F4-41A8-4CA6-9FC6-1E5CD4EE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3B33-8DAA-4F55-9D9C-92D8FC056FCF}" type="slidenum">
              <a:rPr b="0" lang="sr-Latn-C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9E48-8DD3-48DF-A1E4-EB72774A4234}" type="slidenum">
              <a:rPr b="0" lang="sr-Latn-C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471543_brcko1-foto-youtube_or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Object 6"/>
          <p:cNvGraphicFramePr/>
          <p:nvPr/>
        </p:nvGraphicFramePr>
        <p:xfrm>
          <a:off x="3780000" y="0"/>
          <a:ext cx="136836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0"/>
                    <a:ext cx="13683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13"/>
          <p:cNvSpPr/>
          <p:nvPr/>
        </p:nvSpPr>
        <p:spPr>
          <a:xfrm>
            <a:off x="971640" y="1773360"/>
            <a:ext cx="72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THE GOVERNMENT O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BRČKO DISTRICT OF B&amp;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FLOODS 2014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4652640"/>
            <a:ext cx="76327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s caused by landslid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M 667,525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 landsli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11" descr="051543"/>
          <p:cNvPicPr/>
          <p:nvPr/>
        </p:nvPicPr>
        <p:blipFill>
          <a:blip r:embed="rId1"/>
          <a:stretch/>
        </p:blipFill>
        <p:spPr>
          <a:xfrm>
            <a:off x="826920" y="0"/>
            <a:ext cx="7490160" cy="4292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DSC_1245"/>
          <p:cNvPicPr/>
          <p:nvPr/>
        </p:nvPicPr>
        <p:blipFill>
          <a:blip r:embed="rId1"/>
          <a:stretch/>
        </p:blipFill>
        <p:spPr>
          <a:xfrm>
            <a:off x="539640" y="1557360"/>
            <a:ext cx="41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DSC_1321"/>
          <p:cNvPicPr/>
          <p:nvPr/>
        </p:nvPicPr>
        <p:blipFill>
          <a:blip r:embed="rId2"/>
          <a:stretch/>
        </p:blipFill>
        <p:spPr>
          <a:xfrm>
            <a:off x="4859280" y="1557360"/>
            <a:ext cx="3889440" cy="3240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sanacija klizista satorovoci 624"/>
          <p:cNvPicPr/>
          <p:nvPr/>
        </p:nvPicPr>
        <p:blipFill>
          <a:blip r:embed="rId1"/>
          <a:stretch/>
        </p:blipFill>
        <p:spPr>
          <a:xfrm>
            <a:off x="826920" y="0"/>
            <a:ext cx="7490160" cy="39052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076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habilitation of landsli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D of B&amp;H Budget: BAM 35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or funds (UNDP): BAM 5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poplave-u-bih-brcko-od-sinoc-odsjeceno-od-ostatka-zemlje_0_18876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45086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472392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ccecff"/>
                </a:solidFill>
                <a:latin typeface="Arial"/>
              </a:rPr>
              <a:t>Economic damages: BAM 4,043,000.00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530028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damage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ies, equipment, products and raw materials: BAM 2,418,816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damage (lost profit): BAM 1,624,184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07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Investments in econo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686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 of B&amp;H Budget : BAM 30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or funds (UNDP): BAM 21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10" descr="luka-brcko-07042011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3860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okbrsko-preview"/>
          <p:cNvPicPr/>
          <p:nvPr/>
        </p:nvPicPr>
        <p:blipFill>
          <a:blip r:embed="rId1"/>
          <a:stretch/>
        </p:blipFill>
        <p:spPr>
          <a:xfrm>
            <a:off x="395280" y="0"/>
            <a:ext cx="8353440" cy="4005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4076640"/>
            <a:ext cx="835344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s caused to municipal infrastructur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M 6,638,600.0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supply and sewerage: BAM 2,335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 waste: BAM 84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ctricity facilities: BA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463,6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brcko"/>
          <p:cNvPicPr/>
          <p:nvPr/>
        </p:nvPicPr>
        <p:blipFill>
          <a:blip r:embed="rId1"/>
          <a:stretch/>
        </p:blipFill>
        <p:spPr>
          <a:xfrm>
            <a:off x="971640" y="0"/>
            <a:ext cx="7129440" cy="37576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971640" y="393372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vestments in municipal infrastruc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900000" y="4581360"/>
            <a:ext cx="763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D of B&amp;H Budg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M 1,42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4365720"/>
            <a:ext cx="8640720" cy="23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Damages caused to housing</a:t>
            </a:r>
            <a:r>
              <a:rPr b="0" lang="hr-HR" sz="3200" spc="-1" strike="noStrike">
                <a:solidFill>
                  <a:srgbClr val="ccecff"/>
                </a:solidFill>
                <a:latin typeface="Arial"/>
              </a:rPr>
              <a:t> fund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: BAM 16,603,000.00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-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722 individual housing units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Picture 7" descr="Avdić Rajfa"/>
          <p:cNvPicPr/>
          <p:nvPr/>
        </p:nvPicPr>
        <p:blipFill>
          <a:blip r:embed="rId1"/>
          <a:stretch/>
        </p:blipFill>
        <p:spPr>
          <a:xfrm>
            <a:off x="1258920" y="0"/>
            <a:ext cx="6842160" cy="4292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653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onstruction of individual housing unit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D of B&amp;H Budg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M 13,000,000.00 (reconstruction of 722 individual housing unit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4" descr="Avdić Rajfa (1)"/>
          <p:cNvPicPr/>
          <p:nvPr/>
        </p:nvPicPr>
        <p:blipFill>
          <a:blip r:embed="rId1"/>
          <a:stretch/>
        </p:blipFill>
        <p:spPr>
          <a:xfrm>
            <a:off x="2484360" y="620640"/>
            <a:ext cx="6202440" cy="3960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08360" y="259920"/>
            <a:ext cx="943308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o far BAM 30,658,894.00 has been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vested and provided</a:t>
            </a:r>
            <a:r>
              <a:rPr b="0" lang="hr-HR" sz="32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 of B&amp;H Budget: BAM 18,358,66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ions to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omina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jects through the BD of B&amp;H institutions: BAM 440,000.00 from UND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ions provided by citizens: BAM 29,528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ations provided by B&amp;H: BAM 271,609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funds: BAM 7,150,000.00 – WBG/I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funds : BAM 3,729,097 - MM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A funds: BAM 6,80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1440" cy="534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e map of the flooded and mined area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ecff"/>
                </a:solidFill>
                <a:latin typeface="Arial"/>
              </a:rPr>
              <a:t>2014 FLOOD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damages caused by 2014 floods: BAM 53,993,908.00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unt of funds invested and provided so far: BAM 30,658,894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 necessary to provide: BAM 23,335,014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ccecff"/>
                </a:solidFill>
                <a:latin typeface="Arial"/>
              </a:rPr>
              <a:t>Thank you for atten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tal damage: BAM 53,993,908.00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to agriculture, forestry and water management: BAM 22,443,505.00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to road infrastructure: BAM 3,598,278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by landslides: BAM 667,525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 damages: BAM 4,043,000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to municipal infrastructure: BAM 6,638,600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s caused to housing fund: BAM 16,603,000.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poplave_Brcko_nasip_probijen_394679875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-360" y="5013360"/>
            <a:ext cx="939636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ffffff"/>
                </a:solidFill>
                <a:latin typeface="Arial"/>
              </a:rPr>
              <a:t>Damages caused to agriculture, forestfy and water managment: BAM 22,443,505.0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griculture: BAM 7,441,619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terinary services: BAM 119,028.0</a:t>
            </a: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</a:t>
            </a: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agement: BAM 14,833,95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estry: BAM 48,95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poplava-donja-skakava-642x336"/>
          <p:cNvPicPr/>
          <p:nvPr/>
        </p:nvPicPr>
        <p:blipFill>
          <a:blip r:embed="rId1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IMG_0685"/>
          <p:cNvPicPr/>
          <p:nvPr/>
        </p:nvPicPr>
        <p:blipFill>
          <a:blip r:embed="rId1"/>
          <a:stretch/>
        </p:blipFill>
        <p:spPr>
          <a:xfrm>
            <a:off x="0" y="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24000" y="371628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vestments in rehabilitation and prevention in agriculture, forestry and water manag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8"/>
          <p:cNvSpPr/>
          <p:nvPr/>
        </p:nvSpPr>
        <p:spPr>
          <a:xfrm flipV="1" rot="10797600">
            <a:off x="672480" y="4868640"/>
            <a:ext cx="7856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 of B&amp;H Budget: BAM 7,334,492.7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funds: BAM 2,60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or funds (UNDP): BAM 8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A funds: BAM 6,800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onstruction of water-gates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n the Sava River embankment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BD of B&amp;H Budget: BAM 1,108,947.00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2" descr="C:\Users\Win7\Desktop\LJILJA\ŠTETE OD POPLAVA MAJ , AUGUST\SLIKE UZ PODATKE O ŠTETAMA II\Izgradnja nove ustave na mjestu porušene ustave u Vučilovcu\Izgradnja ustave u Vučilovcu ( 3).JPG"/>
          <p:cNvPicPr/>
          <p:nvPr/>
        </p:nvPicPr>
        <p:blipFill>
          <a:blip r:embed="rId1"/>
          <a:stretch/>
        </p:blipFill>
        <p:spPr>
          <a:xfrm>
            <a:off x="4859280" y="1989000"/>
            <a:ext cx="4033800" cy="3122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DSC_1185"/>
          <p:cNvPicPr/>
          <p:nvPr/>
        </p:nvPicPr>
        <p:blipFill>
          <a:blip r:embed="rId2"/>
          <a:stretch/>
        </p:blipFill>
        <p:spPr>
          <a:xfrm>
            <a:off x="179280" y="1989000"/>
            <a:ext cx="4248360" cy="31194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042920" y="0"/>
            <a:ext cx="7129440" cy="4508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4508640"/>
            <a:ext cx="864216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s caused to road infrastructur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M 3,598,278.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6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 km of road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M 1,893,278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 bridge: BAM 1,705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Users\ADIKIB~1\AppData\Local\Temp\notesC7A056\Most Islamovac2.jpg"/>
          <p:cNvPicPr/>
          <p:nvPr/>
        </p:nvPicPr>
        <p:blipFill>
          <a:blip r:embed="rId1"/>
          <a:stretch/>
        </p:blipFill>
        <p:spPr>
          <a:xfrm>
            <a:off x="684360" y="1268280"/>
            <a:ext cx="4824360" cy="4537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vestments into road infrastructur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35280" y="1628640"/>
            <a:ext cx="37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 of B&amp;H Budget: BAM  1,331,000.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funds: BAM 2,000,000.00 from WB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or funds: BAM 100,000.00 from UND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5T08:57:06Z</dcterms:created>
  <dc:creator>Veselin 2</dc:creator>
  <dc:description/>
  <dc:language>en-US</dc:language>
  <cp:lastModifiedBy>operater</cp:lastModifiedBy>
  <dcterms:modified xsi:type="dcterms:W3CDTF">2015-09-30T08:51:48Z</dcterms:modified>
  <cp:revision>52</cp:revision>
  <dc:subject/>
  <dc:title>POPLAVE 2014 VLADA BRČKO DISTRIKTA BIH</dc:title>
</cp:coreProperties>
</file>